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00D-A754-482A-A2D4-934F6158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64D-2084-4C7F-B821-2B6C2BBF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D1A-8667-44CE-BF04-E96CDC3C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FC4-3E69-4B51-A7B7-EF7A532E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3105-10A0-4E96-BA2D-A82D3BF0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BDA1-788B-4D5F-B9AA-91520F47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9854-D384-45A1-BB61-EC688C7D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BEDD-C792-4CA2-98D9-342883E6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4D0A-6257-4340-A481-C18EBD92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B090-EDB2-4DAC-851D-42677A2B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E779-D5F7-492B-BA02-AF7F7C19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5AD-1AD4-47F3-BDAF-3723B43D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22F2-F9A9-4D1F-B68A-82B062E8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3920-136A-448B-A9B7-8F83167E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4BA8-98C1-4B04-A34C-FC52479B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11DF-FEDE-44DD-99B2-05C79B50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5E6D-4286-49C4-9F08-66C5BFA2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CA78C-7A80-4394-BA95-E5D8271C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21D21-00E1-41C6-957A-38DF42E2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A0D38-6037-41CE-A54F-48B689FA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07AF3-1E4B-44C9-9519-5B71D88C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7B303-FC2D-4A3D-863F-05DD00C6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EF02-F8FE-4D79-97AD-7914DC8E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766D3-2371-4BA9-BAE4-AAF2470F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CC90E-506B-4943-B66E-BE1A9AF6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890E8-E007-40D6-B446-2578AE04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7C28D-543C-427B-85A3-98EA8875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511CB-0E32-4838-B845-3F5A192F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601D1-5126-48D5-94B5-5B01706D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4FAD5-8888-405B-999F-E704CC9D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B7066A-3035-42F5-8BC1-1FD53955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A04976-6D6F-4AC2-8506-3A72E659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5B42AD-6F58-406C-B437-23F55B6F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2142-618C-46C5-B5B3-D13F0334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437A86-9907-49DF-99AE-BBD542D3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52F541-B70A-4C80-A15E-60C9E464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8D8AD7-8578-4F99-A67E-583B150E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9340FD-367E-45CA-A743-23EF21DF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79BCCE-02FF-4BE4-B729-0615B1DF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332421-5434-429F-A5C2-AD7ABF03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4723D7-1FC3-4E42-9580-CC8A719C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C3B508-43C8-475F-853A-1BF8A5F4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3BDEA-CB52-491B-8A3E-0BF36D28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A8B6B9-1E6D-46FA-BD18-EA371CD2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0D0-E4EA-48BB-84AE-E2CB5BA6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3CA61-BB63-46D6-881E-1B508287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41C37-2702-4467-9F9E-2D616354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7C7243-F1F2-4F46-A28A-A23B52AC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F26683-3D24-4E14-83E1-BC10B6FB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264758-9372-44AC-BC77-F21FD4DF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0AE032-0672-4408-BDD5-EBD5AF30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D54B1D-E8A0-4E81-AFAA-544D171E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7BAEE-5421-48A2-A687-4D8C68C7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0A1D23-2D08-402D-AC3C-AFB6DAF5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600D51-9F5A-44A0-A423-6FA2C86C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DBD-8777-400E-B833-2ADE5E04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0EF29-BDD9-4C4C-B358-599516A5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3E95E-C848-46BC-87CD-320AB4BE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75CFD-4875-4CE0-9029-07784010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FCA06-300E-43F1-82F4-7442347A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76769-8209-4432-B3A4-11D0F87F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77656-F56D-4E8F-BBB6-158CC216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EBE7F-D1F0-48F3-BE90-605E493A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7482C-3A3F-4A8E-AE14-92AC4CC7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2B29C-9FA2-4F33-BAE7-78EB5F19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BAD14-1798-4902-B68F-45CB6B0F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92D-6C46-44CE-99F6-E1A141C6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4BD0B-8757-4C72-A90A-024ACE95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C552F-2EE8-4A23-8E92-9B85DC10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27B68-7FDD-40F9-912B-725F996B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A991B-CFA8-4C91-84A3-F1FC2FA4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FD7970-D27F-4A2B-9521-4E303AC8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4F8A61-DFEB-423E-A648-56943A4A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02CBF7-7ACF-43D8-8468-3E367D98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CE5816-5F66-4AAB-9EBD-C3FDA49C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97F1B-9A3A-4827-BFFE-6C4388FF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DC8D03-BC82-4F2D-8CB5-435F59D8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621A-84AD-45EE-B41E-E8A5EA9B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E52D96-3019-47EF-A0DE-5D6B91A4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BD18DD-4859-4BDC-8009-0F2C5D49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79DA40-0B6A-4AD3-80A9-61C191DA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53A071-BFFE-467C-9331-D7CA1E11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29B1AE-2B33-4805-AD17-B94B1CAB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F1C7A-CD85-47B8-95EF-98F208C6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E9E1D-57C5-4659-BF01-641E5E37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4614F-635E-454B-BCE3-8031959D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1598E-CF2D-4268-BD71-46768101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EA9C2-9962-417C-8479-149D593C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1B68-C7F4-4573-B00F-7ABC3452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C5C02-801B-4EAB-987D-E490CBC0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DE3BA-E2D9-4468-81C6-D9873AF5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1DA4E-9482-4DFB-8323-CA6959F7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98F10-0FE0-4482-B602-D8D1E5B8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D52BE-752F-449B-8473-52F69AD4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A4210-CC2D-4AB7-AA0E-ED913AA9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1C042-EED7-4D27-859C-FD19FD94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88CF-DDFD-47E3-8E94-F8CFA264C3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3020-A4BE-49DC-80EB-4F7BADEBCDA1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D017-4C4F-4B10-BCF8-EF329E052C21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AF42-9232-49C9-92FF-0CF21A3897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DB2F-5E6E-49A9-B586-71D32E02A91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C781-AA9C-4781-8D88-4A69E0FC54D7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2500-2F14-4CDC-BA3E-109DC728EC25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B6B9-322C-49BA-8E68-C1B936F656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75f55"/>
                </a:solidFill>
                <a:latin typeface="Tw Cen MT"/>
              </a:rPr>
              <a:t>File Management </a:t>
            </a:r>
            <a:br>
              <a:rPr sz="12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1447560"/>
            <a:ext cx="91440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DO NOW…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g on to your comput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o to webopedia.co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ok up the following ter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ctr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le Management System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TODAY’S AGEND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arn about File Manag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ve” vs. “Save As” are they the same thing?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Straight Connector 6"/>
          <p:cNvSpPr/>
          <p:nvPr/>
        </p:nvSpPr>
        <p:spPr>
          <a:xfrm>
            <a:off x="0" y="4191120"/>
            <a:ext cx="9144000" cy="1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File Manage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33520" y="21333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he system that an operating system or program uses to organize and keep track of files.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mportant Ter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0" y="16002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o manage your files most effectively, you need to become familiar with the following terms: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w Cen MT"/>
              </a:rPr>
              <a:t>Hard Drives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 like a file cabinet that provides storage for the folders that hold your programs, files, mail etc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Drives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tain folders/files  (Drives are identified by letter of the alphabet.)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Folders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tain folders/file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Files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tain the stuff you typ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For example: </a:t>
            </a:r>
            <a:br>
              <a:rPr sz="2100"/>
            </a:br>
            <a:r>
              <a:rPr b="1" i="1" lang="en-US" sz="2100" spc="-1" strike="noStrike">
                <a:solidFill>
                  <a:srgbClr val="000000"/>
                </a:solidFill>
                <a:latin typeface="Tw Cen MT"/>
              </a:rPr>
              <a:t>Folders 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an contain files, programs and subfolders. These may be stored on the hard disk drive, your DVD/CD, a network drive, etc.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By creating folders within folders, you build a folder pyramid. You might like to organize your folders according to the type of file each contains or their purpose(Meeting Minutes, Budget Info., and so on).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o Create a New Fold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Option 1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ight-click in an empty space within the folder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hoos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New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Folder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from the pop-up menu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Name the folder and press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nter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Option 2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lick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Organize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hoos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New Folde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Name the folder and press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nte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Option 3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lick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Fil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hoos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New, Folde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Name the folder and press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nte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Save vs. Save As… the same thing???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NO WAY!!!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15998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ell, to put it simply, </a:t>
            </a: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Save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will save the current file under the same name in the same location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What does it do??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aves the new changes over the original file you opened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f a file is newly created then Save will open a window allowing you to name the file and choose a save location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t's a simple save of the current information over the old, in the same place with the same nam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On the other hand, </a:t>
            </a: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Save As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will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w Cen MT"/>
              </a:rPr>
              <a:t>always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bring up the Save As window allowing you to change the file name and its save locatio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ssuming you make a change to name or location, the original file will still be intact in its original location after the Save A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ime Saving Tips!!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 file name should not have more than 64 characters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hen naming a file you can use letters of the alphabet, numbers, dashes or underscores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IMPORTANT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Never use a period.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system uses them to separate a file name from the file type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844520" y="1589040"/>
            <a:ext cx="4070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t is best to keep it short and simple. For example: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OOD: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jan06-minutes.doc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AD: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minutes from the meeting held in jan-06.doc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ave, Save, Save!!!!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et into the practice of saving your work at regular intervals. If you save your work early and often it doesn’t matter if you mess up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How often is often?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en using a word processor, saving after each paragraph is not too frequently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en using another program, such as a graphics editor or a spreadsheet, save after each major change you make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 only takes a second to save a document, so if you turn it into a habit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now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you’ll avoid headache later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0:11:03Z</dcterms:created>
  <dc:creator>Laura</dc:creator>
  <dc:description/>
  <dc:language>en-US</dc:language>
  <cp:lastModifiedBy>8736</cp:lastModifiedBy>
  <dcterms:modified xsi:type="dcterms:W3CDTF">2009-09-11T14:46:47Z</dcterms:modified>
  <cp:revision>13</cp:revision>
  <dc:subject/>
  <dc:title>File Management</dc:title>
</cp:coreProperties>
</file>